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1450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120" y="746280"/>
            <a:ext cx="6629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2931-6668-410E-9E75-D3F6163309F2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8006-1AB3-4930-A204-F408A54E8677}" type="slidenum">
              <a:rPr b="0" lang="en-N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DF97-6FED-407C-AF82-B917AA24A7F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Cambria"/>
                <a:ea typeface="Arial"/>
              </a:rPr>
              <a:t>I am not responsible for what happens in my life or for how I feel. Talented/smart people don’t have to work hard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tetris effect and gratitude diaries etc. STOCISM discovering and how empowering it is! Learned optimism: not permanent, not pervasive, not perso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C81B-D6ED-4211-9459-43CF367579D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Cambria"/>
                <a:ea typeface="Arial"/>
              </a:rPr>
              <a:t>I am not responsible for what happens in my life or for how I feel. Talented/smart people don’t have to work hard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tetris effect and gratitude diaries etc. STOCISM discovering and how empowering it is! Learned optimism: not permanent, not pervasive, not perso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825F-38E8-4A3E-A66E-9989E6C7A49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5B31-E909-43A0-8936-870B3378482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E2DA-3261-44E8-AF23-50F1DC3654A1}" type="slidenum">
              <a:rPr b="0" lang="en-N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E2E0-28BB-4141-872A-8891C5577B4B}" type="slidenum">
              <a:rPr b="0" lang="en-N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F53-815F-411D-B143-7DC7835E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9EA-C7AF-4C2F-82AC-55A58B50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783-A67E-4FD6-9503-736FFDC9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0A4-38BE-4639-A513-3BB5200E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6D14-8D68-47DF-ADA1-F3A3E141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7FE9-4A53-4815-8113-70B7653F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DA31-E4F7-41A2-B993-113CDE8F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89A1-6A14-4E47-B152-2E359CA4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6342-A10F-4D9A-A446-553282F1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8B10-4246-4BDE-8B72-85919075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3C05-BFA2-426B-950E-22B241A6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D54-88F8-4BBE-85D8-18A6EC46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55CD-B864-4872-A870-FAF373B1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47BB-D74B-40D7-8165-4C1546CC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0216-7798-4BF6-88AF-E8FD5A57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B4E4-B5E5-46E9-A189-82298F06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B052-E298-4E40-B7B7-2AE0B5AA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C5C-32AE-4683-BB3C-95E952D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30B-8CDF-40AE-9CC5-38FAAB82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3EB-114C-4E45-B705-289843BD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BE8-667C-4C44-A0C3-34F7A69E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52F-BC97-4799-9097-6F6E9D48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F40B-C332-4C22-B015-1E97BEAA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7D7-1830-4556-BFA5-82EEF58E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C0B0-72D4-4361-9EF5-D991CA6D8ADE}" type="slidenum"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FE89-6C9A-478C-8641-56F7C6FF6A5E}" type="slidenum"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-71280" y="1601640"/>
            <a:ext cx="92865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NZ" sz="4400" spc="-1" strike="noStrike">
                <a:solidFill>
                  <a:srgbClr val="000000"/>
                </a:solidFill>
                <a:latin typeface="Cambria"/>
              </a:rPr>
              <a:t>BETTER NEVER STOP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Lessons from the school of hard kn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1"/>
          <p:cNvGrpSpPr/>
          <p:nvPr/>
        </p:nvGrpSpPr>
        <p:grpSpPr>
          <a:xfrm>
            <a:off x="-36360" y="4435560"/>
            <a:ext cx="7978680" cy="584280"/>
            <a:chOff x="-36360" y="4435560"/>
            <a:chExt cx="7978680" cy="584280"/>
          </a:xfrm>
        </p:grpSpPr>
        <p:pic>
          <p:nvPicPr>
            <p:cNvPr id="91" name="Picture 6" descr=""/>
            <p:cNvPicPr/>
            <p:nvPr/>
          </p:nvPicPr>
          <p:blipFill>
            <a:blip r:embed="rId1"/>
            <a:stretch/>
          </p:blipFill>
          <p:spPr>
            <a:xfrm>
              <a:off x="-36360" y="4435560"/>
              <a:ext cx="8632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>
              <a:off x="1692360" y="4516560"/>
              <a:ext cx="624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en-NZ" sz="2000" spc="-1" strike="noStrike">
                  <a:solidFill>
                    <a:srgbClr val="000000"/>
                  </a:solidFill>
                  <a:latin typeface="Cambria"/>
                </a:rPr>
                <a:t>@drpaulwood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16" descr="https://lh3.googleusercontent.com/aYbdIM1abwyVSUZLDKoE0CDZGRhlkpsaPOg9tNnBktUQYsXflwknnOn2Ge1Yr7rImGk=w300"/>
          <p:cNvPicPr/>
          <p:nvPr/>
        </p:nvPicPr>
        <p:blipFill>
          <a:blip r:embed="rId2"/>
          <a:stretch/>
        </p:blipFill>
        <p:spPr>
          <a:xfrm>
            <a:off x="676440" y="4511520"/>
            <a:ext cx="439560" cy="439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static1.squarespace.com/static/4f5810d9e4b0ebbf0a1507a6/t/55a6e39be4b0e13bc07f93a1/1437000604121/"/>
          <p:cNvPicPr/>
          <p:nvPr/>
        </p:nvPicPr>
        <p:blipFill>
          <a:blip r:embed="rId3"/>
          <a:srcRect l="13236" t="2117" r="13236" b="0"/>
          <a:stretch/>
        </p:blipFill>
        <p:spPr>
          <a:xfrm>
            <a:off x="1187280" y="4516560"/>
            <a:ext cx="4287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152280" y="-46080"/>
            <a:ext cx="944856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0" y="339840"/>
            <a:ext cx="70930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684360" y="328680"/>
            <a:ext cx="83167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ff"/>
                </a:solidFill>
                <a:latin typeface="Cambria"/>
                <a:ea typeface="Arial"/>
              </a:rPr>
              <a:t>SELF DEFEATING BELIEF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ambria"/>
                <a:ea typeface="Arial"/>
              </a:rPr>
              <a:t>I need everybody’s approval to be worthwhil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ambria"/>
                <a:ea typeface="Arial"/>
              </a:rPr>
              <a:t>I should, they should, the world shoul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ambria"/>
                <a:ea typeface="Arial"/>
              </a:rPr>
              <a:t>I must always succeed, never fail, or make a mistak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ambria"/>
                <a:ea typeface="Arial"/>
              </a:rPr>
              <a:t>I’m not ___________ enough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0" y="339840"/>
            <a:ext cx="70930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728640" y="320760"/>
            <a:ext cx="83170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ff"/>
                </a:solidFill>
                <a:latin typeface="Cambria"/>
                <a:ea typeface="Arial"/>
              </a:rPr>
              <a:t>COURAGE OVER COMF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1"/>
          <p:cNvSpPr/>
          <p:nvPr/>
        </p:nvSpPr>
        <p:spPr>
          <a:xfrm>
            <a:off x="2916360" y="1440000"/>
            <a:ext cx="3311280" cy="331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3422520" y="1949400"/>
            <a:ext cx="2298960" cy="229392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3948120" y="2489040"/>
            <a:ext cx="1247760" cy="1214640"/>
            <a:chOff x="3948120" y="2489040"/>
            <a:chExt cx="1247760" cy="1214640"/>
          </a:xfrm>
        </p:grpSpPr>
        <p:sp>
          <p:nvSpPr>
            <p:cNvPr id="103" name="Oval 6"/>
            <p:cNvSpPr/>
            <p:nvPr/>
          </p:nvSpPr>
          <p:spPr>
            <a:xfrm>
              <a:off x="3948120" y="2489040"/>
              <a:ext cx="1247760" cy="1214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3"/>
            <p:cNvSpPr/>
            <p:nvPr/>
          </p:nvSpPr>
          <p:spPr>
            <a:xfrm>
              <a:off x="4068000" y="278784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fort Zo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10"/>
          <p:cNvGrpSpPr/>
          <p:nvPr/>
        </p:nvGrpSpPr>
        <p:grpSpPr>
          <a:xfrm>
            <a:off x="5491080" y="2773440"/>
            <a:ext cx="2718000" cy="382680"/>
            <a:chOff x="5491080" y="2773440"/>
            <a:chExt cx="2718000" cy="382680"/>
          </a:xfrm>
        </p:grpSpPr>
        <p:sp>
          <p:nvSpPr>
            <p:cNvPr id="106" name="Left Arrow 8"/>
            <p:cNvSpPr/>
            <p:nvPr/>
          </p:nvSpPr>
          <p:spPr>
            <a:xfrm>
              <a:off x="5491080" y="3108600"/>
              <a:ext cx="2465640" cy="47520"/>
            </a:xfrm>
            <a:prstGeom prst="leftArrow">
              <a:avLst>
                <a:gd name="adj1" fmla="val 50000"/>
                <a:gd name="adj2" fmla="val 50205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9"/>
            <p:cNvSpPr/>
            <p:nvPr/>
          </p:nvSpPr>
          <p:spPr>
            <a:xfrm>
              <a:off x="6696720" y="2773440"/>
              <a:ext cx="151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tretch Zo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1065240" y="3367080"/>
            <a:ext cx="2211480" cy="428760"/>
            <a:chOff x="1065240" y="3367080"/>
            <a:chExt cx="2211480" cy="428760"/>
          </a:xfrm>
        </p:grpSpPr>
        <p:sp>
          <p:nvSpPr>
            <p:cNvPr id="109" name="Right Arrow 11"/>
            <p:cNvSpPr/>
            <p:nvPr/>
          </p:nvSpPr>
          <p:spPr>
            <a:xfrm>
              <a:off x="1187280" y="3703680"/>
              <a:ext cx="2089440" cy="9216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14"/>
            <p:cNvSpPr/>
            <p:nvPr/>
          </p:nvSpPr>
          <p:spPr>
            <a:xfrm>
              <a:off x="1065240" y="3367080"/>
              <a:ext cx="166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rror Zo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5"/>
          <p:cNvSpPr/>
          <p:nvPr/>
        </p:nvSpPr>
        <p:spPr>
          <a:xfrm>
            <a:off x="179280" y="1177920"/>
            <a:ext cx="33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ss + Recovery = Growth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A glass of water&#10;&#10;Description automatically generated"/>
          <p:cNvPicPr/>
          <p:nvPr/>
        </p:nvPicPr>
        <p:blipFill>
          <a:blip r:embed="rId1"/>
          <a:stretch/>
        </p:blipFill>
        <p:spPr>
          <a:xfrm>
            <a:off x="-30240" y="-2589120"/>
            <a:ext cx="9655200" cy="77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1"/>
          <p:cNvGrpSpPr/>
          <p:nvPr/>
        </p:nvGrpSpPr>
        <p:grpSpPr>
          <a:xfrm>
            <a:off x="22320" y="4549680"/>
            <a:ext cx="7539120" cy="465120"/>
            <a:chOff x="22320" y="4549680"/>
            <a:chExt cx="7539120" cy="465120"/>
          </a:xfrm>
        </p:grpSpPr>
        <p:pic>
          <p:nvPicPr>
            <p:cNvPr id="117" name="Picture 6" descr=""/>
            <p:cNvPicPr/>
            <p:nvPr/>
          </p:nvPicPr>
          <p:blipFill>
            <a:blip r:embed="rId1"/>
            <a:stretch/>
          </p:blipFill>
          <p:spPr>
            <a:xfrm>
              <a:off x="22320" y="4549680"/>
              <a:ext cx="68724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7"/>
            <p:cNvSpPr/>
            <p:nvPr/>
          </p:nvSpPr>
          <p:spPr>
            <a:xfrm>
              <a:off x="1311120" y="4566960"/>
              <a:ext cx="625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en-NZ" sz="1200" spc="-1" strike="noStrike">
                  <a:solidFill>
                    <a:srgbClr val="000000"/>
                  </a:solidFill>
                  <a:latin typeface="Cambria"/>
                </a:rPr>
                <a:t>@drpaulwood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16" descr="https://lh3.googleusercontent.com/aYbdIM1abwyVSUZLDKoE0CDZGRhlkpsaPOg9tNnBktUQYsXflwknnOn2Ge1Yr7rImGk=w300"/>
          <p:cNvPicPr/>
          <p:nvPr/>
        </p:nvPicPr>
        <p:blipFill>
          <a:blip r:embed="rId2"/>
          <a:stretch/>
        </p:blipFill>
        <p:spPr>
          <a:xfrm>
            <a:off x="630360" y="4616280"/>
            <a:ext cx="350640" cy="35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static1.squarespace.com/static/4f5810d9e4b0ebbf0a1507a6/t/55a6e39be4b0e13bc07f93a1/1437000604121/"/>
          <p:cNvPicPr/>
          <p:nvPr/>
        </p:nvPicPr>
        <p:blipFill>
          <a:blip r:embed="rId3"/>
          <a:srcRect l="13236" t="2117" r="13236" b="0"/>
          <a:stretch/>
        </p:blipFill>
        <p:spPr>
          <a:xfrm>
            <a:off x="1047600" y="4618080"/>
            <a:ext cx="352440" cy="350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A close up of a pier&#13;&#10;&#13;&#10;Description automatically generated"/>
          <p:cNvPicPr/>
          <p:nvPr/>
        </p:nvPicPr>
        <p:blipFill>
          <a:blip r:embed="rId4"/>
          <a:srcRect l="0" t="15679" r="0" b="0"/>
          <a:stretch/>
        </p:blipFill>
        <p:spPr>
          <a:xfrm>
            <a:off x="-36360" y="0"/>
            <a:ext cx="9264600" cy="51465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10"/>
          <p:cNvGrpSpPr/>
          <p:nvPr/>
        </p:nvGrpSpPr>
        <p:grpSpPr>
          <a:xfrm>
            <a:off x="2033640" y="204840"/>
            <a:ext cx="7208640" cy="647640"/>
            <a:chOff x="2033640" y="204840"/>
            <a:chExt cx="7208640" cy="647640"/>
          </a:xfrm>
        </p:grpSpPr>
        <p:sp>
          <p:nvSpPr>
            <p:cNvPr id="123" name="Rectangle 11"/>
            <p:cNvSpPr/>
            <p:nvPr/>
          </p:nvSpPr>
          <p:spPr>
            <a:xfrm>
              <a:off x="2033640" y="204840"/>
              <a:ext cx="7208640" cy="64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4"/>
            <p:cNvSpPr/>
            <p:nvPr/>
          </p:nvSpPr>
          <p:spPr>
            <a:xfrm>
              <a:off x="2088000" y="304560"/>
              <a:ext cx="7056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NZ" sz="27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STRESS IS A CHALLENGE TO BE EMBRACED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6"/>
          <p:cNvGrpSpPr/>
          <p:nvPr/>
        </p:nvGrpSpPr>
        <p:grpSpPr>
          <a:xfrm>
            <a:off x="3924360" y="1087560"/>
            <a:ext cx="5308560" cy="647640"/>
            <a:chOff x="3924360" y="1087560"/>
            <a:chExt cx="5308560" cy="647640"/>
          </a:xfrm>
        </p:grpSpPr>
        <p:sp>
          <p:nvSpPr>
            <p:cNvPr id="126" name="Rectangle 17"/>
            <p:cNvSpPr/>
            <p:nvPr/>
          </p:nvSpPr>
          <p:spPr>
            <a:xfrm>
              <a:off x="3924360" y="1087560"/>
              <a:ext cx="5308560" cy="64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4"/>
            <p:cNvSpPr/>
            <p:nvPr/>
          </p:nvSpPr>
          <p:spPr>
            <a:xfrm>
              <a:off x="3978360" y="1146240"/>
              <a:ext cx="52063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NZ" sz="27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THE GOAL IS GETTING BETTER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9"/>
          <p:cNvGrpSpPr/>
          <p:nvPr/>
        </p:nvGrpSpPr>
        <p:grpSpPr>
          <a:xfrm>
            <a:off x="4572000" y="1969920"/>
            <a:ext cx="4660920" cy="648000"/>
            <a:chOff x="4572000" y="1969920"/>
            <a:chExt cx="4660920" cy="648000"/>
          </a:xfrm>
        </p:grpSpPr>
        <p:sp>
          <p:nvSpPr>
            <p:cNvPr id="129" name="Rectangle 20"/>
            <p:cNvSpPr/>
            <p:nvPr/>
          </p:nvSpPr>
          <p:spPr>
            <a:xfrm>
              <a:off x="4572000" y="1969920"/>
              <a:ext cx="4660920" cy="64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4"/>
            <p:cNvSpPr/>
            <p:nvPr/>
          </p:nvSpPr>
          <p:spPr>
            <a:xfrm>
              <a:off x="4583880" y="2032560"/>
              <a:ext cx="4464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NZ" sz="27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SELF-CARE IS A DISCIPLINE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1"/>
          <p:cNvGrpSpPr/>
          <p:nvPr/>
        </p:nvGrpSpPr>
        <p:grpSpPr>
          <a:xfrm>
            <a:off x="-36360" y="4435560"/>
            <a:ext cx="7978680" cy="584280"/>
            <a:chOff x="-36360" y="4435560"/>
            <a:chExt cx="7978680" cy="58428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-36360" y="4435560"/>
              <a:ext cx="8632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>
              <a:off x="1692360" y="4516560"/>
              <a:ext cx="624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en-NZ" sz="2000" spc="-1" strike="noStrike">
                  <a:solidFill>
                    <a:srgbClr val="000000"/>
                  </a:solidFill>
                  <a:latin typeface="Cambria"/>
                </a:rPr>
                <a:t>@drpaulwood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7" name="Picture 16" descr="https://lh3.googleusercontent.com/aYbdIM1abwyVSUZLDKoE0CDZGRhlkpsaPOg9tNnBktUQYsXflwknnOn2Ge1Yr7rImGk=w300"/>
          <p:cNvPicPr/>
          <p:nvPr/>
        </p:nvPicPr>
        <p:blipFill>
          <a:blip r:embed="rId3"/>
          <a:stretch/>
        </p:blipFill>
        <p:spPr>
          <a:xfrm>
            <a:off x="676440" y="4511520"/>
            <a:ext cx="439560" cy="439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static1.squarespace.com/static/4f5810d9e4b0ebbf0a1507a6/t/55a6e39be4b0e13bc07f93a1/1437000604121/"/>
          <p:cNvPicPr/>
          <p:nvPr/>
        </p:nvPicPr>
        <p:blipFill>
          <a:blip r:embed="rId4"/>
          <a:srcRect l="13236" t="2117" r="13236" b="0"/>
          <a:stretch/>
        </p:blipFill>
        <p:spPr>
          <a:xfrm>
            <a:off x="1187280" y="4516560"/>
            <a:ext cx="4287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8:41:59Z</dcterms:created>
  <dc:creator>Sarah</dc:creator>
  <dc:description/>
  <dc:language>en-US</dc:language>
  <cp:lastModifiedBy>Paul Wood</cp:lastModifiedBy>
  <cp:lastPrinted>2013-03-14T21:00:55Z</cp:lastPrinted>
  <dcterms:modified xsi:type="dcterms:W3CDTF">2019-07-15T02:28:58Z</dcterms:modified>
  <cp:revision>332</cp:revision>
  <dc:subject/>
  <dc:title>PowerPoint Presentation</dc:title>
</cp:coreProperties>
</file>