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120" y="746280"/>
            <a:ext cx="6629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785-4128-4C3B-954D-48FB6BD725B9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1253-4B09-49D1-9551-16F6B2ADC243}" type="slidenum">
              <a:rPr b="0" lang="en-N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0B1-491B-4948-967F-55F6679D7A7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mbria"/>
                <a:ea typeface="Arial"/>
              </a:rPr>
              <a:t>I am not responsible for what happens in my life or for how I feel. Talented/smart people don’t have to work hard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tetris effect and gratitude diaries etc. STOCISM discovering and how empowering it is! Learned optimism: not permanent, not pervasive, not pers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B1B-1AB0-42C3-B968-8EAC8B74040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Cambria"/>
                <a:ea typeface="Arial"/>
              </a:rPr>
              <a:t>I am not responsible for what happens in my life or for how I feel. Talented/smart people don’t have to work hard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tetris effect and gratitude diaries etc. STOCISM discovering and how empowering it is! Learned optimism: not permanent, not pervasive, not pers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53E4-A4B6-410D-B5C9-B57A3276B94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CE6A-7C3F-4688-A294-AECE0D71C82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9D62-1FAF-4249-9F89-97AA4EB237F3}" type="slidenum">
              <a:rPr b="0" lang="en-N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28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E15-38DE-462C-A666-09BEDFEABE44}" type="slidenum">
              <a:rPr b="0" lang="en-N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B1B-6A64-4EFB-82F1-15038E7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0FC-7228-482E-8AD4-77368137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D21-4DCF-4998-A213-176F403C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557-816D-462F-ADE0-37C621D6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2BD2-4387-418A-B0D3-6268C4C6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978-BC00-43FE-81DE-93DE2408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3523-A5AE-4855-B2B4-70991C9A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4A78-01AD-4A54-B007-58DA2479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FF2E-1A88-42AE-9689-F1757179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41FB-63D7-4DCC-844A-2E7B892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97B5-88D3-4689-8424-04CCE437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C53-3312-4D6C-8CCF-C13940B4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9E0-BE42-4459-98F6-69B79A9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34A8-9F71-4D0C-AD3E-186F4C0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EFA6-353C-47B0-83AA-76B7B87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B2A2-A662-4BAC-A1CF-F3EE026C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2B64-0C62-4D4C-AC2C-6DD920EB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B37-1DC0-44D0-9883-1FB2219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22B-D394-4F82-B87B-64FA834A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372-05D2-42D7-9756-90178E95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59F-D795-4EBD-AD24-53470F86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D0A-4B51-4B02-A661-91CAF5BA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245E-A83D-428F-A837-79B9F171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D8AC-95E3-49C1-9A58-BC15709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01D1-9627-4982-8867-144F6503141F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9A09-36E7-44EC-9BCE-57A193DBAB93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-71280" y="1601640"/>
            <a:ext cx="92865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en-NZ" sz="4400" spc="-1" strike="noStrike">
                <a:solidFill>
                  <a:srgbClr val="000000"/>
                </a:solidFill>
                <a:latin typeface="Cambria"/>
              </a:rPr>
              <a:t>BETTER NEVER STOP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40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Lessons from the school of hard kn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"/>
          <p:cNvGrpSpPr/>
          <p:nvPr/>
        </p:nvGrpSpPr>
        <p:grpSpPr>
          <a:xfrm>
            <a:off x="-36360" y="4435560"/>
            <a:ext cx="7978680" cy="584280"/>
            <a:chOff x="-36360" y="4435560"/>
            <a:chExt cx="7978680" cy="584280"/>
          </a:xfrm>
        </p:grpSpPr>
        <p:pic>
          <p:nvPicPr>
            <p:cNvPr id="91" name="Picture 6" descr=""/>
            <p:cNvPicPr/>
            <p:nvPr/>
          </p:nvPicPr>
          <p:blipFill>
            <a:blip r:embed="rId1"/>
            <a:stretch/>
          </p:blipFill>
          <p:spPr>
            <a:xfrm>
              <a:off x="-36360" y="4435560"/>
              <a:ext cx="8632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>
              <a:off x="1692360" y="4516560"/>
              <a:ext cx="624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@drpaulwood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16" descr="https://lh3.googleusercontent.com/aYbdIM1abwyVSUZLDKoE0CDZGRhlkpsaPOg9tNnBktUQYsXflwknnOn2Ge1Yr7rImGk=w300"/>
          <p:cNvPicPr/>
          <p:nvPr/>
        </p:nvPicPr>
        <p:blipFill>
          <a:blip r:embed="rId2"/>
          <a:stretch/>
        </p:blipFill>
        <p:spPr>
          <a:xfrm>
            <a:off x="676440" y="4511520"/>
            <a:ext cx="439560" cy="439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static1.squarespace.com/static/4f5810d9e4b0ebbf0a1507a6/t/55a6e39be4b0e13bc07f93a1/1437000604121/"/>
          <p:cNvPicPr/>
          <p:nvPr/>
        </p:nvPicPr>
        <p:blipFill>
          <a:blip r:embed="rId3"/>
          <a:srcRect l="13236" t="2117" r="13236" b="0"/>
          <a:stretch/>
        </p:blipFill>
        <p:spPr>
          <a:xfrm>
            <a:off x="1187280" y="4516560"/>
            <a:ext cx="428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52280" y="-46080"/>
            <a:ext cx="94485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0" y="339840"/>
            <a:ext cx="70930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84360" y="328680"/>
            <a:ext cx="83167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ambria"/>
                <a:ea typeface="Arial"/>
              </a:rPr>
              <a:t>SELF DEFEATING BELIEF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 need everybody’s approval to be worthwhil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 should, they should, the world shoul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 must always succeed, never fail, or make a mistak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Cambria"/>
                <a:ea typeface="Arial"/>
              </a:rPr>
              <a:t>I’m not ___________ enough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339840"/>
            <a:ext cx="7093080" cy="64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28640" y="320760"/>
            <a:ext cx="831708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ff"/>
                </a:solidFill>
                <a:latin typeface="Cambria"/>
                <a:ea typeface="Arial"/>
              </a:rPr>
              <a:t>COURAGE OVER COMF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"/>
          <p:cNvSpPr/>
          <p:nvPr/>
        </p:nvSpPr>
        <p:spPr>
          <a:xfrm>
            <a:off x="2916360" y="1440000"/>
            <a:ext cx="3311280" cy="331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3422520" y="1949400"/>
            <a:ext cx="2298960" cy="2293920"/>
          </a:xfrm>
          <a:prstGeom prst="ellipse">
            <a:avLst/>
          </a:pr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3948120" y="2489040"/>
            <a:ext cx="1247760" cy="1214640"/>
            <a:chOff x="3948120" y="2489040"/>
            <a:chExt cx="1247760" cy="1214640"/>
          </a:xfrm>
        </p:grpSpPr>
        <p:sp>
          <p:nvSpPr>
            <p:cNvPr id="103" name="Oval 6"/>
            <p:cNvSpPr/>
            <p:nvPr/>
          </p:nvSpPr>
          <p:spPr>
            <a:xfrm>
              <a:off x="3948120" y="2489040"/>
              <a:ext cx="1247760" cy="1214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>
              <a:off x="4068000" y="278784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omfort Z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10"/>
          <p:cNvGrpSpPr/>
          <p:nvPr/>
        </p:nvGrpSpPr>
        <p:grpSpPr>
          <a:xfrm>
            <a:off x="5491080" y="2773440"/>
            <a:ext cx="2718000" cy="382680"/>
            <a:chOff x="5491080" y="2773440"/>
            <a:chExt cx="2718000" cy="382680"/>
          </a:xfrm>
        </p:grpSpPr>
        <p:sp>
          <p:nvSpPr>
            <p:cNvPr id="106" name="Left Arrow 8"/>
            <p:cNvSpPr/>
            <p:nvPr/>
          </p:nvSpPr>
          <p:spPr>
            <a:xfrm>
              <a:off x="5491080" y="3108600"/>
              <a:ext cx="2465640" cy="47520"/>
            </a:xfrm>
            <a:prstGeom prst="leftArrow">
              <a:avLst>
                <a:gd name="adj1" fmla="val 50000"/>
                <a:gd name="adj2" fmla="val 50205"/>
              </a:avLst>
            </a:prstGeom>
            <a:solidFill>
              <a:srgbClr val="00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9"/>
            <p:cNvSpPr/>
            <p:nvPr/>
          </p:nvSpPr>
          <p:spPr>
            <a:xfrm>
              <a:off x="6696720" y="2773440"/>
              <a:ext cx="151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retch Z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1065240" y="3367080"/>
            <a:ext cx="2211480" cy="428760"/>
            <a:chOff x="1065240" y="3367080"/>
            <a:chExt cx="2211480" cy="428760"/>
          </a:xfrm>
        </p:grpSpPr>
        <p:sp>
          <p:nvSpPr>
            <p:cNvPr id="109" name="Right Arrow 11"/>
            <p:cNvSpPr/>
            <p:nvPr/>
          </p:nvSpPr>
          <p:spPr>
            <a:xfrm>
              <a:off x="1187280" y="3703680"/>
              <a:ext cx="2089440" cy="92160"/>
            </a:xfrm>
            <a:prstGeom prst="rightArrow">
              <a:avLst>
                <a:gd name="adj1" fmla="val 50000"/>
                <a:gd name="adj2" fmla="val 49962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4"/>
            <p:cNvSpPr/>
            <p:nvPr/>
          </p:nvSpPr>
          <p:spPr>
            <a:xfrm>
              <a:off x="1065240" y="3367080"/>
              <a:ext cx="166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rror Zo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5"/>
          <p:cNvSpPr/>
          <p:nvPr/>
        </p:nvSpPr>
        <p:spPr>
          <a:xfrm>
            <a:off x="179280" y="1177920"/>
            <a:ext cx="33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ess + Recovery = Growt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A glass of water&#10;&#10;Description automatically generated"/>
          <p:cNvPicPr/>
          <p:nvPr/>
        </p:nvPicPr>
        <p:blipFill>
          <a:blip r:embed="rId1"/>
          <a:stretch/>
        </p:blipFill>
        <p:spPr>
          <a:xfrm>
            <a:off x="-30240" y="-2589120"/>
            <a:ext cx="9655200" cy="77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1"/>
          <p:cNvGrpSpPr/>
          <p:nvPr/>
        </p:nvGrpSpPr>
        <p:grpSpPr>
          <a:xfrm>
            <a:off x="22320" y="4549680"/>
            <a:ext cx="7539120" cy="465120"/>
            <a:chOff x="22320" y="4549680"/>
            <a:chExt cx="7539120" cy="465120"/>
          </a:xfrm>
        </p:grpSpPr>
        <p:pic>
          <p:nvPicPr>
            <p:cNvPr id="117" name="Picture 6" descr=""/>
            <p:cNvPicPr/>
            <p:nvPr/>
          </p:nvPicPr>
          <p:blipFill>
            <a:blip r:embed="rId1"/>
            <a:stretch/>
          </p:blipFill>
          <p:spPr>
            <a:xfrm>
              <a:off x="22320" y="4549680"/>
              <a:ext cx="6872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7"/>
            <p:cNvSpPr/>
            <p:nvPr/>
          </p:nvSpPr>
          <p:spPr>
            <a:xfrm>
              <a:off x="1311120" y="4566960"/>
              <a:ext cx="625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NZ" sz="1200" spc="-1" strike="noStrike">
                  <a:solidFill>
                    <a:srgbClr val="000000"/>
                  </a:solidFill>
                  <a:latin typeface="Cambria"/>
                </a:rPr>
                <a:t>@drpaulwood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9" name="Picture 16" descr="https://lh3.googleusercontent.com/aYbdIM1abwyVSUZLDKoE0CDZGRhlkpsaPOg9tNnBktUQYsXflwknnOn2Ge1Yr7rImGk=w300"/>
          <p:cNvPicPr/>
          <p:nvPr/>
        </p:nvPicPr>
        <p:blipFill>
          <a:blip r:embed="rId2"/>
          <a:stretch/>
        </p:blipFill>
        <p:spPr>
          <a:xfrm>
            <a:off x="630360" y="4616280"/>
            <a:ext cx="350640" cy="35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static1.squarespace.com/static/4f5810d9e4b0ebbf0a1507a6/t/55a6e39be4b0e13bc07f93a1/1437000604121/"/>
          <p:cNvPicPr/>
          <p:nvPr/>
        </p:nvPicPr>
        <p:blipFill>
          <a:blip r:embed="rId3"/>
          <a:srcRect l="13236" t="2117" r="13236" b="0"/>
          <a:stretch/>
        </p:blipFill>
        <p:spPr>
          <a:xfrm>
            <a:off x="1047600" y="4618080"/>
            <a:ext cx="352440" cy="350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A close up of a pier&#13;&#10;&#13;&#10;Description automatically generated"/>
          <p:cNvPicPr/>
          <p:nvPr/>
        </p:nvPicPr>
        <p:blipFill>
          <a:blip r:embed="rId4"/>
          <a:srcRect l="0" t="15679" r="0" b="0"/>
          <a:stretch/>
        </p:blipFill>
        <p:spPr>
          <a:xfrm>
            <a:off x="-36360" y="0"/>
            <a:ext cx="9264600" cy="51465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10"/>
          <p:cNvGrpSpPr/>
          <p:nvPr/>
        </p:nvGrpSpPr>
        <p:grpSpPr>
          <a:xfrm>
            <a:off x="2033640" y="204840"/>
            <a:ext cx="7208640" cy="647640"/>
            <a:chOff x="2033640" y="204840"/>
            <a:chExt cx="7208640" cy="647640"/>
          </a:xfrm>
        </p:grpSpPr>
        <p:sp>
          <p:nvSpPr>
            <p:cNvPr id="123" name="Rectangle 11"/>
            <p:cNvSpPr/>
            <p:nvPr/>
          </p:nvSpPr>
          <p:spPr>
            <a:xfrm>
              <a:off x="2033640" y="204840"/>
              <a:ext cx="7208640" cy="64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Box 4"/>
            <p:cNvSpPr/>
            <p:nvPr/>
          </p:nvSpPr>
          <p:spPr>
            <a:xfrm>
              <a:off x="2088000" y="304560"/>
              <a:ext cx="7056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NZ" sz="27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STRESS IS A CHALLENGE TO BE EMBRACED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16"/>
          <p:cNvGrpSpPr/>
          <p:nvPr/>
        </p:nvGrpSpPr>
        <p:grpSpPr>
          <a:xfrm>
            <a:off x="3924360" y="1087560"/>
            <a:ext cx="5308560" cy="647640"/>
            <a:chOff x="3924360" y="1087560"/>
            <a:chExt cx="5308560" cy="647640"/>
          </a:xfrm>
        </p:grpSpPr>
        <p:sp>
          <p:nvSpPr>
            <p:cNvPr id="126" name="Rectangle 17"/>
            <p:cNvSpPr/>
            <p:nvPr/>
          </p:nvSpPr>
          <p:spPr>
            <a:xfrm>
              <a:off x="3924360" y="1087560"/>
              <a:ext cx="5308560" cy="64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Box 4"/>
            <p:cNvSpPr/>
            <p:nvPr/>
          </p:nvSpPr>
          <p:spPr>
            <a:xfrm>
              <a:off x="3978360" y="1146240"/>
              <a:ext cx="5206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NZ" sz="27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THE GOAL IS GETTING BETTER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9"/>
          <p:cNvGrpSpPr/>
          <p:nvPr/>
        </p:nvGrpSpPr>
        <p:grpSpPr>
          <a:xfrm>
            <a:off x="4572000" y="1969920"/>
            <a:ext cx="4660920" cy="648000"/>
            <a:chOff x="4572000" y="1969920"/>
            <a:chExt cx="4660920" cy="648000"/>
          </a:xfrm>
        </p:grpSpPr>
        <p:sp>
          <p:nvSpPr>
            <p:cNvPr id="129" name="Rectangle 20"/>
            <p:cNvSpPr/>
            <p:nvPr/>
          </p:nvSpPr>
          <p:spPr>
            <a:xfrm>
              <a:off x="4572000" y="1969920"/>
              <a:ext cx="4660920" cy="64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4"/>
            <p:cNvSpPr/>
            <p:nvPr/>
          </p:nvSpPr>
          <p:spPr>
            <a:xfrm>
              <a:off x="4583880" y="2032560"/>
              <a:ext cx="446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NZ" sz="27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SELF-CARE IS A DISCIPLINE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1"/>
          <p:cNvGrpSpPr/>
          <p:nvPr/>
        </p:nvGrpSpPr>
        <p:grpSpPr>
          <a:xfrm>
            <a:off x="-36360" y="4435560"/>
            <a:ext cx="7978680" cy="584280"/>
            <a:chOff x="-36360" y="4435560"/>
            <a:chExt cx="7978680" cy="58428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-36360" y="4435560"/>
              <a:ext cx="8632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Box 7"/>
            <p:cNvSpPr/>
            <p:nvPr/>
          </p:nvSpPr>
          <p:spPr>
            <a:xfrm>
              <a:off x="1692360" y="4516560"/>
              <a:ext cx="624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0" lang="en-NZ" sz="2000" spc="-1" strike="noStrike">
                  <a:solidFill>
                    <a:srgbClr val="000000"/>
                  </a:solidFill>
                  <a:latin typeface="Cambria"/>
                </a:rPr>
                <a:t>@drpaulwood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7" name="Picture 16" descr="https://lh3.googleusercontent.com/aYbdIM1abwyVSUZLDKoE0CDZGRhlkpsaPOg9tNnBktUQYsXflwknnOn2Ge1Yr7rImGk=w300"/>
          <p:cNvPicPr/>
          <p:nvPr/>
        </p:nvPicPr>
        <p:blipFill>
          <a:blip r:embed="rId3"/>
          <a:stretch/>
        </p:blipFill>
        <p:spPr>
          <a:xfrm>
            <a:off x="676440" y="4511520"/>
            <a:ext cx="439560" cy="439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static1.squarespace.com/static/4f5810d9e4b0ebbf0a1507a6/t/55a6e39be4b0e13bc07f93a1/1437000604121/"/>
          <p:cNvPicPr/>
          <p:nvPr/>
        </p:nvPicPr>
        <p:blipFill>
          <a:blip r:embed="rId4"/>
          <a:srcRect l="13236" t="2117" r="13236" b="0"/>
          <a:stretch/>
        </p:blipFill>
        <p:spPr>
          <a:xfrm>
            <a:off x="1187280" y="4516560"/>
            <a:ext cx="428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08:41:59Z</dcterms:created>
  <dc:creator>Sarah</dc:creator>
  <dc:description/>
  <dc:language>en-US</dc:language>
  <cp:lastModifiedBy>Paul Wood</cp:lastModifiedBy>
  <cp:lastPrinted>2013-03-14T21:00:55Z</cp:lastPrinted>
  <dcterms:modified xsi:type="dcterms:W3CDTF">2019-07-15T02:28:58Z</dcterms:modified>
  <cp:revision>332</cp:revision>
  <dc:subject/>
  <dc:title>PowerPoint Presentation</dc:title>
</cp:coreProperties>
</file>